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115B5-8C2A-4B89-A933-80C75D107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C7285-AEEB-49B7-ADB4-31FF5CCE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39A33-A925-43B9-A2BC-019B96CF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310F5-B112-4C22-8E35-5BA4BC5A8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850A7E-D0A9-4B7C-9C7E-4F5E82B56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017913-B2FA-413F-9890-16F4CB682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BC8EFF-373F-488A-861C-A16AB328B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1F0546-A700-49A6-A311-6D905E302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57A6BA-F6CB-4102-A7E4-2ABE6CC20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162FC6-DD22-497A-BB89-51FF0565E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723F68-3DA7-4F63-88CD-745E3E0C3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B5DB9-4413-4F57-9440-ED881F1C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E31BE4-CE28-4DDC-8CEF-97FA63AF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361F7E-A545-4F5F-8E15-CBF10EE42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26748B-5E30-4D9E-BBD4-6489A6D80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1A44C2-6536-4A9B-B513-535ABDE4D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FA75BE-BC1F-45FD-B877-DB923D4CA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293CD-9AE0-4D90-A344-C93AFF23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A8B8-F040-428D-9244-C3152DFB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DD81-51BF-4A49-8746-26543F6A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6FBF-9560-443A-9EA5-6FDF8EEC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5019-F5A6-46B8-A9B9-AA2D29B6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6FBF1-51C3-46BE-82D0-2448DDD2D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73ED-D98E-44E8-82FF-90956CDD4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68B2-1416-4FCC-9C18-8A93DDE0CA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2AF7-8779-474A-A4DC-B1A61ECEBA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3e3ff"/>
                </a:solidFill>
                <a:latin typeface="Arial"/>
              </a:rPr>
              <a:t>The Narrative Essay:</a:t>
            </a:r>
            <a:br>
              <a:rPr sz="6600"/>
            </a:br>
            <a:r>
              <a:rPr b="0" lang="en-US" sz="6600" spc="-1" strike="noStrike">
                <a:solidFill>
                  <a:srgbClr val="e3e3ff"/>
                </a:solidFill>
                <a:latin typeface="Arial"/>
              </a:rPr>
              <a:t>It Differs From a Simple Story!</a:t>
            </a:r>
            <a:endParaRPr b="0" lang="en-US" sz="66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Angie McCall</cp:lastModifiedBy>
  <dcterms:modified xsi:type="dcterms:W3CDTF">2013-08-19T19:57:45Z</dcterms:modified>
  <cp:revision>9</cp:revision>
  <dc:subject/>
  <dc:title>The Narrative Essay</dc:title>
</cp:coreProperties>
</file>